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5DFF-E628-4F42-9B46-99FCD456E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2B1F-972F-4981-A683-87C8F0283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E941-85B0-404D-B379-2FBD323D0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59F6-1F57-4753-86B1-A0DA31BE4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5041-3E2B-48F9-BE73-982549BC1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BAEA-307C-4BD1-96DF-F6BCB4527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42E6-6C96-4115-995A-999F83955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CA64-9DAB-4CF7-8354-CDBB49B19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57ED-3D2D-4F72-8723-9378A2AB8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C073-40BC-4829-8E7C-ABD8C178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F21E-EB55-4510-BA83-CB9A55C1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9D45-1DDC-4098-9AFB-CABFD505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99C7-A2A9-4D07-8E42-26A8FE6375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rcRect l="0" t="0" r="24191" b="22028"/>
          <a:stretch/>
        </p:blipFill>
        <p:spPr>
          <a:xfrm>
            <a:off x="-76320" y="-201600"/>
            <a:ext cx="9151920" cy="705960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380880" y="1752480"/>
            <a:ext cx="617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  <a:ea typeface="Arial"/>
              </a:rPr>
              <a:t>Montag     Dienstag    Mittwoch    Donnerstag   Freita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  <a:ea typeface="Arial"/>
              </a:rPr>
              <a:t>                              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  <a:ea typeface="Arial"/>
              </a:rPr>
              <a:t>Samstag              Sonnta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6477120" y="-209520"/>
            <a:ext cx="9144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rs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zwei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drit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vier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fünf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echs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ieb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ch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neuntezehn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7315200" y="-228600"/>
            <a:ext cx="190512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elf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zwölf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dreizehn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vierzehn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fünfzehn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sechzehn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siebzehn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achtzehn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neunzehn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zwanzigs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einundzwanzigst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zweiundzwanzigs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dreiundzwanzigs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vierundund-zwanzigs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fünfundzwanzigs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sechsundzwanzigs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siebenund-zwanzigs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achtundzwanzigs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neunundzwanzigs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dreissigs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"/>
          <p:cNvSpPr/>
          <p:nvPr/>
        </p:nvSpPr>
        <p:spPr>
          <a:xfrm>
            <a:off x="6324480" y="5562720"/>
            <a:ext cx="2514600" cy="457200"/>
          </a:xfrm>
          <a:prstGeom prst="rect">
            <a:avLst/>
          </a:prstGeom>
          <a:solidFill>
            <a:srgbClr val="ffffcc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2"/>
          <p:cNvSpPr/>
          <p:nvPr/>
        </p:nvSpPr>
        <p:spPr>
          <a:xfrm>
            <a:off x="6400800" y="55720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alibri"/>
              </a:rPr>
              <a:t>für heute i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1T18:55:57Z</dcterms:created>
  <dc:creator>Alissa Hart</dc:creator>
  <dc:description/>
  <dc:language>en-US</dc:language>
  <cp:lastModifiedBy>Alissa Hart</cp:lastModifiedBy>
  <dcterms:modified xsi:type="dcterms:W3CDTF">2014-10-23T15:25:45Z</dcterms:modified>
  <cp:revision>3</cp:revision>
  <dc:subject/>
  <dc:title>PowerPoint Presentation</dc:title>
</cp:coreProperties>
</file>